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3A11-130D-4B29-B05B-FFD90ABE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0C8D-A9F6-43B5-8077-ECECB70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5918-C899-4CAE-8DC4-39842FFB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773E-7E2E-428A-9B2A-CA7D5AA3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C82-AADF-4593-BD7A-9971D32D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9148-6EB2-468D-90AD-904D6114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186-0151-4C85-AC17-4EFDA6A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621D-EA1A-4E12-A722-D4045105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275-A9EC-4805-AE24-DE1AC00B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0131-F059-46AD-BAB9-EA39F511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1C37-F934-4F4C-8A6E-0CD0A7D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8072-5C24-42E6-97A2-81BE6C6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B487-C846-430C-99DF-D4E0EA7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8210-57EF-42EB-B9C6-1AD4872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78D0-6BDA-4A1E-A8D0-C092A20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6E6D-8A65-4042-9D79-563237E3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14DF-54AC-4130-A759-739BFBC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F811-B384-4396-A478-C614AD44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2E7B-AEBB-4DF9-8ACE-BECA7C5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E16B-3B03-4412-9B94-1652F44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CBD2-1FDE-49C6-BD88-A9525323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B6DD-F64B-4686-B863-B13AA81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6431-8706-4743-927E-C652C7D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6035-AC8A-4AAA-B017-DDD0BF4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E62-7501-4239-8EF1-05EC5CF6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7B00-CC12-4D36-BC24-4979E84A5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llogical Shift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ether a person is young or old, he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can still enjoy the benefits of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ercis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ther a person is young or old, you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ther a person is young or old,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ether a person is young or old, 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or she can still enjoy the benefits of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xercis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ther a person is young or old, you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ther a person is young or old, the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n still enjoy the benefits of exerci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 I liked my classes, I change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lthough I liked my classes, I changed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 I liked my classes, I chang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major to something more practic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 I liked my classes, I change m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to something 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lthough I liked my classes, I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anged my major to something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ore practical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 I liked my classes, I chang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major to something more practic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shift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ift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inconsistencies in wri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void shifts, make sure that all the verbs in a sentence that describe actions happening at the same time are in the same tense: all in the present, all in the past, or all in the future. This 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ONSISTENT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s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y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ckey until 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eak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s le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s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y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ckey until 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ok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s leg. [Both verbs ar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now in the past tense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shift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, all nouns and pronouns in a sentence should be consistent i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r point of view: first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/w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second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or third person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/she/it/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ONSISTEN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ind Professor Bell’s class difficult, bu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succeed if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T  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ind Professor Bell’s class difficult, bu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n succeed if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y. [The sentence stays in the third person instead of shifting from third person to second person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b applicants should make sure that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s are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b applicants should make sure that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job applicant should make sure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Job applicants should make sure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ir résumés are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b applicants should make sure that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job applicant should make sure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résumé is up-to-d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ost successful athletes must practice his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i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ost successful athletes must practice 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ost successful athletes must practice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i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ost successful athletes must practic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r skills on a regular bas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s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ed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s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o surprise Ed, I jumped out of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shes as he walk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To surprise Ed, I jumped out of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shes as he walked b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5:50:07Z</dcterms:modified>
  <cp:revision>117</cp:revision>
  <dc:subject/>
  <dc:title>Sentence Fragments</dc:title>
</cp:coreProperties>
</file>